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11D-4B67-4D2C-AA86-11FB7A43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FC0-9F8A-44AE-9B4F-02CF3082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BAD9A-FC9D-4AF3-AFD4-315E2635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EE3AD-0FF5-4197-806E-A1E7B9F5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8093F-C6B5-4A62-9124-7650CBDA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DA2EA-53F5-40A3-A28C-39B5694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CA904-23E8-4FF1-9997-14335C88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46223-C17C-4C6E-A804-643E211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E07A2-2860-47E7-B150-029B666E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4236D-1271-4659-AF6D-60C4114E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B89C6-E5DC-447B-BC74-F661D03C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DAB62-0B20-4AF8-937F-9A7E9AE4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949-E674-4F68-96F8-1067E0D7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7B506-F635-44D8-9424-960FB52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8C0BB-7907-4007-8F0E-9A73E21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E3BD9-8A35-413D-98B2-9E4B86B2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C9EFC-0656-4124-9B99-A01CE465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43200-B75F-4253-90D6-8A792D4A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D4BD8-792D-4A79-B45E-4D6B41D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FFC20-0536-4BCA-ADE6-F0815E1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96572-1325-43FF-B33E-4CBDB6D2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ABC70-C173-4F6F-8241-80280FF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77D8D-900C-4261-9F84-9E085F18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A11-1088-4EC0-AEA2-B74153FA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6D65A-B4A7-4871-A601-3BE94177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BBAB8-AED8-4D3D-A609-A0976B0A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635DF-944E-4ADA-93DD-CF83D07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75A6-9CC8-4BE5-9E64-3EE76EE1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D1884-8D2F-4DB7-B40D-6D25DD02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060FA-BB32-4C8E-B2AE-13317CE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07F3B-C321-4BBE-955B-ACDE632D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94E09-91E0-47A4-83A6-C970D901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7AE69-0918-44FE-A0DC-E02F1E6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AB468-88E4-453E-83E3-162ECA2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C41D-1A67-4657-A75A-682C94A3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913B8-C0A8-4951-830D-A20D7F14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77279-8FC1-488A-AE5B-AC7DF0A6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88085-8C04-47C9-9346-B80BBF41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852BB-22A2-48CD-BDDD-1D939588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F34B4-0F26-4F65-911B-807776ED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90B75-8FBF-4E38-9C27-6C41D8F4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95BD5-FE88-4A23-900E-70DD05F8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C6C9F-1D1C-42E7-8C02-37D81433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757A8-9754-451E-A90B-60AEB461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91426-486A-487C-9F79-7321AC1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68CC-D347-4B61-83C4-3C0D565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771A0-F41B-492C-B72B-10EA5DB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1D124-D7AE-4D14-A04F-BDFB102C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8DCB9-01D4-4F25-87D8-F6177FED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CBF82-10AF-4DC9-80A9-89889EB8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805BF-CFCD-48A3-B789-CBD2C668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E309B-0A50-4DC5-81C9-55C70517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AF36D-5870-4E6D-973B-B7D16A5E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B0E87-B842-4F71-8F78-2A7E0367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D3F18-50C4-4FED-9C29-3D3D6A1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9CBFF-23B1-4884-B75A-86617ABB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B504-1BFB-469F-90A8-CA4CA0B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D599C-DC0E-44E9-B7FC-027A01AF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C2500-8F25-490A-A192-E8D15624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8AB10-8C2B-4F94-B3B6-6291970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6A9C1-0FF9-45B8-A2BC-F1799612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C7782-0F45-4EEF-BF5E-194FEE53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83CD3-F19C-494C-A47C-58BC4A4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EE4DA-7B2F-47D8-92B3-6B7BC0D4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B872C-4846-4613-BA56-3624703A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482F6-68CB-4610-AF78-CC89520B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A8586-61B9-4C1E-B2BE-639558F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E60C-8888-4B26-B2A6-384FDF1D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690A9-2A3D-4B47-813B-668366D2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2A4C1-6552-4C5B-80FF-D4A38E43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4DF96-05EE-4B28-A11C-3F237A8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B24DC-B21C-4167-857B-AD2CCF3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6F1AB-B8DA-433B-B03D-3B6BE64F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0F23F-C1D3-4B96-AE26-B69A0CC6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C319E-392A-46C0-95D3-200AB0C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45B4C-5AD7-4D6C-B57D-154A262E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093C2-AF28-4516-9219-E43E96D2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7AE7F-CBE9-457C-932D-1FCD8DD7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2FA-1B79-45A1-A956-4D5BF63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743FD-D3FE-4089-9C2A-546606FA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69926-B464-4F69-B80A-50DAE380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D9E52-470F-4215-8425-F1E36859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2FC72-F6F4-4C64-9C84-B02B3F0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C5173-6A2D-4D3D-A0D4-D27C9E56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ED2B2-750B-426C-A2FA-088237DC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B3F8D-43A2-4EFC-B19D-C47F93F4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12A35-1E98-45EA-9AB5-7FB515E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AD65A-ED16-42E8-AF81-B56B994D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D9961-0575-49A3-A658-DF84D81B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EBDF-99B9-4B0B-AD58-27ED31C9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DBBD4-081F-46D9-8492-01B3C197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BA03A-1640-45F2-B0EC-5D7D2157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F764E-2301-434E-94ED-67CB4374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32567-F5C7-4EA8-A397-C76AB914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8D274-31F3-4584-9371-A6242EBF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48E13-6B90-43B2-B505-6A5ACB4A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55A86-98D0-404B-AE10-D2EB1E8A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208B7-1BBC-41F6-B8CD-ADE6909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9E164-6B87-4CDB-B6E1-AD5ED0AE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E9F14-E8FB-42DF-A68F-B38D670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4961-DB45-4FE5-9571-E7F1840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B958C-665E-492B-B3D5-32FB51B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5CE66-F6C6-4517-A9DB-58AA9FA9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CF5D6-D054-48DE-88D6-9D452D34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B9731-A88C-46DB-A79A-4F17ED0D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D5A15-17E4-4B16-911D-6CC836C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366FCA-524A-4F2B-9D4D-3F585613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D3C82-F69B-483B-828B-5A8529D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4F0A3-9462-4754-AD79-D4BFEF1F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40F73-B6AC-4663-B0D6-935444D5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F6DF3-E5E2-44D8-8046-E243553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566-79F4-4468-A16C-6F3F90AF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0165-CC49-4762-89DB-500C836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09A8A-0531-496B-9061-FBC0D42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62185-67BB-49C0-9377-7C32E45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F4B934-8C06-43CC-9941-94AEBD46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7DBF7-736B-4E35-912F-FF9D1C30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39B52-582C-487A-8A23-FF58C5AA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C44D4-BBA8-40AF-B044-DDDC5C39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DEF533-2303-408D-9F5C-F2266367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B8B957-F803-4E97-B6A7-4C018968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DF7F0-4F17-430D-8E94-138142C9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2E4648-1844-49FE-AC37-9D2EE96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A7E8-577D-4A0D-8FDB-EDDF55E6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1B7BD-8123-467E-8B34-A3AB2EC3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6AA41-3430-4284-96AD-BCA5785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863BA-435B-4A64-8B8E-74798CB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83F4F-66DD-48DB-9064-45913AF9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1365A-FA46-4B0C-A776-90ADA67F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E9127-46D0-4359-9118-C6D7BD85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01F06-6BB8-4495-AADA-6F885346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9A19A-A978-4F47-B554-2298B01C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9BEE5-562B-4E4C-8EAF-D75B48BB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F08AE-1516-4045-9D9E-D78E7044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8B72-6FBC-4A71-8BBC-913B3E2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92331-6288-40A5-A591-D661378B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CCEEC-54A2-415A-8828-A7840E06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35505-88EB-4E56-A9BC-411145D6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066BE-9200-4A4E-B657-BC6EAD3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DC577-0667-406C-B73F-A6D31F31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727DC-4BA3-49B5-9E98-174F8E0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13112-1676-4176-BB67-48FC3050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C9D34-6CA4-48AD-B66A-4EE1D79A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C3D91-C3B2-4E1D-AE08-A3E2605E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D8F6C-CDA3-4AC2-A355-52EEE2D5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68B3-395D-4198-8A6F-BE2733A3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BF7B9-ADE1-46CF-BAEA-AC5FAA8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A00C1-ABA5-4A2D-A902-A6D12E5D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698F7-A50F-4710-97F6-2D13090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2050C-19B6-4F86-9494-C018AB4D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A8284-A9F5-4734-BC04-10A4D8F2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2426F-5EFE-47CD-A378-5512269E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5FD7B-41C7-49AF-BEAB-FF8E72FD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4C7704-6457-43AD-8723-4C12EA7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EDF2E-3871-4754-97A8-DB3860EE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CD26B-123E-4E8F-B216-B63C311C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E786-1A10-4CC9-9C0B-4062DCE3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CD09E-95E4-4D4A-8EDE-9E909553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D428AB-9AC7-422F-96EB-A3F3EB80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B7F88-16D6-4DDF-9B71-1C8FC351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68E80E-196F-4697-A9B6-D8DFD45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9C12B-0390-46A5-A97E-6C03113D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A1629-A473-436C-A42D-3620CCED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B3E00-74F3-4F85-8753-94A5A2E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ABD7D0-AFD6-4AE0-A01C-B6DF4A7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F9A32-BDE3-4B9E-A35A-7B7EA6C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D86F5-F213-4645-B520-27508BD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A3FB-FEB3-4B22-B4E0-9028A53C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978B7-6941-4632-A1D1-64A31D54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79D53-D3E4-4287-AF62-AA5C8C05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9F631-B172-4896-969F-38E469A8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D4EA-5D31-495B-B433-A3A6CE8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ACCE-7588-4593-B947-303330DC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A133-9ECA-43D7-865F-A394D71E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1030-0525-4991-B8DE-18896746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94D-B4EF-404C-8633-5C35A00A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5FC4-2A3C-42C7-8207-685CFEE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604F-7DA0-44AE-9392-61ABCE47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4DE3-6B4B-4942-B0D3-6A9CCAD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FD1D-6940-45DE-B736-EC970CA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7BBB-E9BC-478F-8566-56B8C56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93D0-F34B-4327-B308-549B4F8F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22F5-9006-43B8-869D-FB0D8052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FC4F-7ACB-420C-957D-54BDE65A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13F4-E522-482E-A1DD-C7FD2194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8942-2A45-419C-824F-17722F74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CF6-69FE-498D-8DBA-DDEEFF9C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565E-D560-453F-86AA-7F38F5A2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54E6-3E2B-46C6-B4B5-F81865AF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BD72-F16A-49DE-B1D7-21A58D1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5399-A7DB-46AC-A3B1-FAE3EED7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1AEB-0925-418D-AE68-3BA7BD6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7A4B-B2BF-48BB-987B-A5E8285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9F3A-64FF-48F3-A4F9-4477F2E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C0D8-AABA-472E-AC9A-23B073FC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7C03-3CDF-4770-90DF-5103881C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5F1C-0052-455B-BF77-9F0C050C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257-582F-4F93-8091-1DCA5730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526D7-CA9A-4083-B4BD-5B46C19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38D77-0656-4936-83FB-737FDE89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E8793-5213-45DE-A3CC-389A475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D7A86-FB69-49D8-AD04-6934C5B0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236C3-D571-4EC4-85B0-F217721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64497-6E0D-41F2-91B6-33C32F2A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9ABB6-503A-4952-B7F0-2E7EADCA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D2A6-F5D9-4B2D-AAEB-8CFC8B0F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CA05-460F-479D-B546-104A5147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F281-B41E-44F5-9618-7F3A82F1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57B-3701-4ABB-ABDD-C7B4173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850C-B39B-485A-B471-C54C27AE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8603-E1F2-48A2-86F3-348C8447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BF4BA-6282-4C07-BDB3-2460CE50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A586E-94A2-436C-B231-3D0C2E0C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99D50-EB16-4132-9BA1-0BDF390E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9387-9228-42E4-8F63-9D6E72CC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DBDB-F836-4FE0-A787-1E83D96C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C597-5D7D-4E4A-982C-C120E54B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987E3-DA61-4D55-ADEE-21C277B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BCC2-0FAF-488E-B37C-387540F2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70C-6C46-4F8A-AB24-96D26EA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B50BF-AE32-4B24-A4AE-52AEE086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26D2C-59F7-4217-BCF4-31E85944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1953-699D-4D7E-9CC0-CE0D31F1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CA1C-FEB3-4988-B432-BABA3402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ABDD-D8BA-48E0-B502-9D9FB4AF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22172-6392-4289-9700-C13DACEB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56CB-3772-4181-B554-43FCEE5D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D6DE-AD40-4B6D-B618-25B0597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61758-E757-4914-9F9E-CDF1A25E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0762B-386C-44FA-9E59-9E9AF6A8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616-A97C-466F-B736-186922CD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D8C82-CA41-43A8-8413-80CCACC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B7DFE-9022-4B33-917C-FDB95271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E0741-E5EA-48FD-A699-8FF0EC2C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297E-12F8-46DB-ADE7-1F319BFF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050C-B725-49E0-9DC5-0B62E99F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0B2F0-9C52-4926-B442-880F639B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C8AA8-C952-46CB-B728-9826E5B3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ACCDF-0434-45A4-944E-2FB91556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F687-B2B7-462D-9A6F-8862BEF0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5259E-8E5D-4CB9-84B4-B8DBA05B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0E9-6120-493B-A7BB-CC42EB3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8BA13-4176-4D08-933F-BA82ED2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C25B-6017-41F3-8F8F-0D93F17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F812-3F69-45E2-97F9-2CC203F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4512A-6A7F-4BAF-B28B-E241EA5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D44E-35F4-4CDE-A2BD-86B03DF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77BDE-6963-4548-970C-D455B90F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1CCEB-3913-43D9-ACEB-7E86C522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13D7E-E0B7-430A-9E06-9CEB6B2C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3B1D5-F962-492A-8CAA-3761BDD9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40E99-5BC7-4F79-AB1B-D7A9835F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788B-C66A-463F-9AEB-946D652C62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779-F210-41C4-B036-0CDA2A0B9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CFA8-514E-4E6A-BDBD-C79108E45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56BD-2AFE-4B99-8AC3-325C2859A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BF6F-A55D-4348-AAC0-B0CC5AAC1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155E-5D57-4834-B0CF-6ABDE2D8E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DF91-4819-4A41-9DEA-861C62D4A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96A1-BEED-44AA-919E-CE4381307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6C99-F701-4C51-B4B2-1317515DB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BF61-B47C-44F3-9578-E3F890327F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EA8-2865-4E14-9512-355FD189A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01D3-A26E-4803-98C6-9062001E5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8875-5F35-482F-BAA6-FA2D495264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4260-42CB-4A4D-A26A-70068A2C1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E5B2-3C78-4B8E-AC79-45B9D2C04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A0FE-25B6-4E89-9B0A-BBB3E2E45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CC6-DDBA-4B4F-8765-01707763F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8BCF-2A35-4AD1-BDAF-D4226625B2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7A9-AB31-42AB-9B84-A5D8FB375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AA95-AABE-4E2D-A8B3-411F66B835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7209-C50D-4D0C-8410-418C7C08A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D2A-EC01-466E-A039-55096BFC0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886-7347-4A43-91A4-9A57E19AE8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F43-1E39-47FE-A06D-E5CAECBBD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6CC4-936E-4D66-968E-374A5234A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0AAD-5482-4960-AE5E-28A305F45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9483-B185-4135-8DE0-7AEEA3C1D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6BD5-6109-41DF-BF34-1B6D214D9E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1731-0971-482F-8691-CD7B2FCDC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DCBC-7C26-45F5-9F7C-026BF6707E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FD3-75B8-47DB-B4B0-1EEC4F7DCF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E493-61BB-4132-B2B3-2967506E1F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9BF6-3F22-4DDB-A522-2DAB54AA5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0F28-9113-4D46-9D99-11B2F4F0F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2E3C-6EBD-4C67-A10B-B58A3D1DC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CE56-ED99-4C51-B6D0-784BB6033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91BF-B3D5-4518-A602-A25E063B57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AE75-E435-4EE4-80DA-ABBBE5FD86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0CC5-CA92-4902-B8D2-58A07B46DE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1BB6-3F0E-4E22-B3C7-DE9861D03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1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1780920" cy="66672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2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829400" cy="84780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28683" descr=""/>
          <p:cNvPicPr/>
          <p:nvPr/>
        </p:nvPicPr>
        <p:blipFill>
          <a:blip r:embed="rId3"/>
          <a:stretch/>
        </p:blipFill>
        <p:spPr>
          <a:xfrm>
            <a:off x="3059280" y="3716280"/>
            <a:ext cx="36478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15713" descr=""/>
          <p:cNvPicPr/>
          <p:nvPr/>
        </p:nvPicPr>
        <p:blipFill>
          <a:blip r:embed="rId1"/>
          <a:stretch/>
        </p:blipFill>
        <p:spPr>
          <a:xfrm>
            <a:off x="533520" y="2266920"/>
            <a:ext cx="8076960" cy="2324160"/>
          </a:xfrm>
          <a:prstGeom prst="rect">
            <a:avLst/>
          </a:prstGeom>
          <a:ln w="0">
            <a:noFill/>
          </a:ln>
        </p:spPr>
      </p:pic>
      <p:sp>
        <p:nvSpPr>
          <p:cNvPr id="1071" name="矩形 115714"/>
          <p:cNvSpPr/>
          <p:nvPr/>
        </p:nvSpPr>
        <p:spPr>
          <a:xfrm>
            <a:off x="1728720" y="4038480"/>
            <a:ext cx="55072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14689" descr=""/>
          <p:cNvPicPr/>
          <p:nvPr/>
        </p:nvPicPr>
        <p:blipFill>
          <a:blip r:embed="rId1"/>
          <a:stretch/>
        </p:blipFill>
        <p:spPr>
          <a:xfrm>
            <a:off x="404640" y="852480"/>
            <a:ext cx="8334720" cy="5153040"/>
          </a:xfrm>
          <a:prstGeom prst="rect">
            <a:avLst/>
          </a:prstGeom>
          <a:ln w="0">
            <a:noFill/>
          </a:ln>
        </p:spPr>
      </p:pic>
      <p:sp>
        <p:nvSpPr>
          <p:cNvPr id="1073" name="矩形 114690"/>
          <p:cNvSpPr/>
          <p:nvPr/>
        </p:nvSpPr>
        <p:spPr>
          <a:xfrm>
            <a:off x="7824960" y="322596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113665" descr=""/>
          <p:cNvPicPr/>
          <p:nvPr/>
        </p:nvPicPr>
        <p:blipFill>
          <a:blip r:embed="rId1"/>
          <a:stretch/>
        </p:blipFill>
        <p:spPr>
          <a:xfrm>
            <a:off x="447840" y="1733400"/>
            <a:ext cx="8248320" cy="3391200"/>
          </a:xfrm>
          <a:prstGeom prst="rect">
            <a:avLst/>
          </a:prstGeom>
          <a:ln w="0">
            <a:noFill/>
          </a:ln>
        </p:spPr>
      </p:pic>
      <p:sp>
        <p:nvSpPr>
          <p:cNvPr id="1075" name="矩形 113666"/>
          <p:cNvSpPr/>
          <p:nvPr/>
        </p:nvSpPr>
        <p:spPr>
          <a:xfrm>
            <a:off x="7885080" y="1844640"/>
            <a:ext cx="50472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112641" descr=""/>
          <p:cNvPicPr/>
          <p:nvPr/>
        </p:nvPicPr>
        <p:blipFill>
          <a:blip r:embed="rId1"/>
          <a:stretch/>
        </p:blipFill>
        <p:spPr>
          <a:xfrm>
            <a:off x="461880" y="1714680"/>
            <a:ext cx="8220240" cy="3429000"/>
          </a:xfrm>
          <a:prstGeom prst="rect">
            <a:avLst/>
          </a:prstGeom>
          <a:ln w="0">
            <a:noFill/>
          </a:ln>
        </p:spPr>
      </p:pic>
      <p:sp>
        <p:nvSpPr>
          <p:cNvPr id="1077" name="矩形 112642"/>
          <p:cNvSpPr/>
          <p:nvPr/>
        </p:nvSpPr>
        <p:spPr>
          <a:xfrm>
            <a:off x="7885080" y="3500280"/>
            <a:ext cx="50472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111617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63000" cy="113328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111618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7115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10593" descr=""/>
          <p:cNvPicPr/>
          <p:nvPr/>
        </p:nvPicPr>
        <p:blipFill>
          <a:blip r:embed="rId1"/>
          <a:stretch/>
        </p:blipFill>
        <p:spPr>
          <a:xfrm>
            <a:off x="566640" y="1123920"/>
            <a:ext cx="8010720" cy="4610160"/>
          </a:xfrm>
          <a:prstGeom prst="rect">
            <a:avLst/>
          </a:prstGeom>
          <a:ln w="0">
            <a:noFill/>
          </a:ln>
        </p:spPr>
      </p:pic>
      <p:sp>
        <p:nvSpPr>
          <p:cNvPr id="1081" name="矩形 110594"/>
          <p:cNvSpPr/>
          <p:nvPr/>
        </p:nvSpPr>
        <p:spPr>
          <a:xfrm>
            <a:off x="7122960" y="1704960"/>
            <a:ext cx="1336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110595"/>
          <p:cNvSpPr/>
          <p:nvPr/>
        </p:nvSpPr>
        <p:spPr>
          <a:xfrm>
            <a:off x="1560600" y="2200320"/>
            <a:ext cx="68990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110596"/>
          <p:cNvSpPr/>
          <p:nvPr/>
        </p:nvSpPr>
        <p:spPr>
          <a:xfrm>
            <a:off x="1281240" y="2682720"/>
            <a:ext cx="52354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110597"/>
          <p:cNvSpPr/>
          <p:nvPr/>
        </p:nvSpPr>
        <p:spPr>
          <a:xfrm>
            <a:off x="6183360" y="3699000"/>
            <a:ext cx="2205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110598"/>
          <p:cNvSpPr/>
          <p:nvPr/>
        </p:nvSpPr>
        <p:spPr>
          <a:xfrm>
            <a:off x="1459080" y="4206960"/>
            <a:ext cx="38336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110599"/>
          <p:cNvSpPr/>
          <p:nvPr/>
        </p:nvSpPr>
        <p:spPr>
          <a:xfrm>
            <a:off x="4024440" y="5210280"/>
            <a:ext cx="38336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图片 109569" descr=""/>
          <p:cNvPicPr/>
          <p:nvPr/>
        </p:nvPicPr>
        <p:blipFill>
          <a:blip r:embed="rId1"/>
          <a:stretch/>
        </p:blipFill>
        <p:spPr>
          <a:xfrm>
            <a:off x="447840" y="1428840"/>
            <a:ext cx="8248320" cy="4000320"/>
          </a:xfrm>
          <a:prstGeom prst="rect">
            <a:avLst/>
          </a:prstGeom>
          <a:ln w="0">
            <a:noFill/>
          </a:ln>
        </p:spPr>
      </p:pic>
      <p:sp>
        <p:nvSpPr>
          <p:cNvPr id="1088" name="矩形 109570"/>
          <p:cNvSpPr/>
          <p:nvPr/>
        </p:nvSpPr>
        <p:spPr>
          <a:xfrm>
            <a:off x="7199280" y="1920960"/>
            <a:ext cx="1333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109571"/>
          <p:cNvSpPr/>
          <p:nvPr/>
        </p:nvSpPr>
        <p:spPr>
          <a:xfrm>
            <a:off x="1268280" y="2441520"/>
            <a:ext cx="2079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109572"/>
          <p:cNvSpPr/>
          <p:nvPr/>
        </p:nvSpPr>
        <p:spPr>
          <a:xfrm>
            <a:off x="1420920" y="2949480"/>
            <a:ext cx="58150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109573"/>
          <p:cNvSpPr/>
          <p:nvPr/>
        </p:nvSpPr>
        <p:spPr>
          <a:xfrm>
            <a:off x="1611360" y="3432240"/>
            <a:ext cx="1089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109574"/>
          <p:cNvSpPr/>
          <p:nvPr/>
        </p:nvSpPr>
        <p:spPr>
          <a:xfrm>
            <a:off x="3529080" y="3927600"/>
            <a:ext cx="442764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109575"/>
          <p:cNvSpPr/>
          <p:nvPr/>
        </p:nvSpPr>
        <p:spPr>
          <a:xfrm>
            <a:off x="5535720" y="4448160"/>
            <a:ext cx="3213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109576"/>
          <p:cNvSpPr/>
          <p:nvPr/>
        </p:nvSpPr>
        <p:spPr>
          <a:xfrm>
            <a:off x="1077840" y="4956120"/>
            <a:ext cx="3213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108545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77120" cy="5105520"/>
          </a:xfrm>
          <a:prstGeom prst="rect">
            <a:avLst/>
          </a:prstGeom>
          <a:ln w="0">
            <a:noFill/>
          </a:ln>
        </p:spPr>
      </p:pic>
      <p:sp>
        <p:nvSpPr>
          <p:cNvPr id="1096" name="矩形 108546"/>
          <p:cNvSpPr/>
          <p:nvPr/>
        </p:nvSpPr>
        <p:spPr>
          <a:xfrm>
            <a:off x="4545000" y="2682720"/>
            <a:ext cx="36273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108547"/>
          <p:cNvSpPr/>
          <p:nvPr/>
        </p:nvSpPr>
        <p:spPr>
          <a:xfrm>
            <a:off x="4443480" y="5222880"/>
            <a:ext cx="25765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107521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753320" cy="147636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07522" descr=""/>
          <p:cNvPicPr/>
          <p:nvPr/>
        </p:nvPicPr>
        <p:blipFill>
          <a:blip r:embed="rId2"/>
          <a:stretch/>
        </p:blipFill>
        <p:spPr>
          <a:xfrm>
            <a:off x="941400" y="2738520"/>
            <a:ext cx="4762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106497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543400" cy="517212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06498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5200560" cy="4124160"/>
          </a:xfrm>
          <a:prstGeom prst="rect">
            <a:avLst/>
          </a:prstGeom>
          <a:ln w="0">
            <a:noFill/>
          </a:ln>
        </p:spPr>
      </p:pic>
      <p:sp>
        <p:nvSpPr>
          <p:cNvPr id="1102" name="矩形 106499"/>
          <p:cNvSpPr/>
          <p:nvPr/>
        </p:nvSpPr>
        <p:spPr>
          <a:xfrm>
            <a:off x="3795840" y="2517840"/>
            <a:ext cx="50472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106500"/>
          <p:cNvSpPr/>
          <p:nvPr/>
        </p:nvSpPr>
        <p:spPr>
          <a:xfrm>
            <a:off x="3579840" y="4041720"/>
            <a:ext cx="192888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106501"/>
          <p:cNvSpPr/>
          <p:nvPr/>
        </p:nvSpPr>
        <p:spPr>
          <a:xfrm>
            <a:off x="493560" y="4537080"/>
            <a:ext cx="192888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23905" descr=""/>
          <p:cNvPicPr/>
          <p:nvPr/>
        </p:nvPicPr>
        <p:blipFill>
          <a:blip r:embed="rId1"/>
          <a:stretch/>
        </p:blipFill>
        <p:spPr>
          <a:xfrm>
            <a:off x="318960" y="1719360"/>
            <a:ext cx="8506080" cy="34192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123906"/>
          <p:cNvSpPr/>
          <p:nvPr/>
        </p:nvSpPr>
        <p:spPr>
          <a:xfrm>
            <a:off x="4572000" y="2708280"/>
            <a:ext cx="6224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23907"/>
          <p:cNvSpPr/>
          <p:nvPr/>
        </p:nvSpPr>
        <p:spPr>
          <a:xfrm>
            <a:off x="6172200" y="2695680"/>
            <a:ext cx="6224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123908"/>
          <p:cNvSpPr/>
          <p:nvPr/>
        </p:nvSpPr>
        <p:spPr>
          <a:xfrm>
            <a:off x="2120760" y="3025800"/>
            <a:ext cx="6224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123909"/>
          <p:cNvSpPr/>
          <p:nvPr/>
        </p:nvSpPr>
        <p:spPr>
          <a:xfrm>
            <a:off x="3009960" y="300024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23910"/>
          <p:cNvSpPr/>
          <p:nvPr/>
        </p:nvSpPr>
        <p:spPr>
          <a:xfrm>
            <a:off x="6705720" y="302580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23911"/>
          <p:cNvSpPr/>
          <p:nvPr/>
        </p:nvSpPr>
        <p:spPr>
          <a:xfrm>
            <a:off x="4280040" y="3330720"/>
            <a:ext cx="112536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23912"/>
          <p:cNvSpPr/>
          <p:nvPr/>
        </p:nvSpPr>
        <p:spPr>
          <a:xfrm>
            <a:off x="4089240" y="3660840"/>
            <a:ext cx="622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23913"/>
          <p:cNvSpPr/>
          <p:nvPr/>
        </p:nvSpPr>
        <p:spPr>
          <a:xfrm>
            <a:off x="4127400" y="3940200"/>
            <a:ext cx="62244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3914"/>
          <p:cNvSpPr/>
          <p:nvPr/>
        </p:nvSpPr>
        <p:spPr>
          <a:xfrm>
            <a:off x="6908760" y="3965400"/>
            <a:ext cx="1771560" cy="2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23915"/>
          <p:cNvSpPr/>
          <p:nvPr/>
        </p:nvSpPr>
        <p:spPr>
          <a:xfrm>
            <a:off x="977760" y="4245120"/>
            <a:ext cx="7858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23916"/>
          <p:cNvSpPr/>
          <p:nvPr/>
        </p:nvSpPr>
        <p:spPr>
          <a:xfrm>
            <a:off x="3263760" y="4524480"/>
            <a:ext cx="267660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23917"/>
          <p:cNvSpPr/>
          <p:nvPr/>
        </p:nvSpPr>
        <p:spPr>
          <a:xfrm>
            <a:off x="1155600" y="4842000"/>
            <a:ext cx="4137120" cy="26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22881" descr=""/>
          <p:cNvPicPr/>
          <p:nvPr/>
        </p:nvPicPr>
        <p:blipFill>
          <a:blip r:embed="rId1"/>
          <a:stretch/>
        </p:blipFill>
        <p:spPr>
          <a:xfrm>
            <a:off x="324000" y="2838600"/>
            <a:ext cx="8496000" cy="11808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122882"/>
          <p:cNvSpPr/>
          <p:nvPr/>
        </p:nvSpPr>
        <p:spPr>
          <a:xfrm>
            <a:off x="4000680" y="310212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22883"/>
          <p:cNvSpPr/>
          <p:nvPr/>
        </p:nvSpPr>
        <p:spPr>
          <a:xfrm>
            <a:off x="5880240" y="310212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22884"/>
          <p:cNvSpPr/>
          <p:nvPr/>
        </p:nvSpPr>
        <p:spPr>
          <a:xfrm>
            <a:off x="7251840" y="3102120"/>
            <a:ext cx="113652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22885"/>
          <p:cNvSpPr/>
          <p:nvPr/>
        </p:nvSpPr>
        <p:spPr>
          <a:xfrm>
            <a:off x="1535040" y="3416400"/>
            <a:ext cx="109224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22886"/>
          <p:cNvSpPr/>
          <p:nvPr/>
        </p:nvSpPr>
        <p:spPr>
          <a:xfrm>
            <a:off x="4419720" y="371160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22887"/>
          <p:cNvSpPr/>
          <p:nvPr/>
        </p:nvSpPr>
        <p:spPr>
          <a:xfrm>
            <a:off x="6070680" y="3711600"/>
            <a:ext cx="62208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21857" descr=""/>
          <p:cNvPicPr/>
          <p:nvPr/>
        </p:nvPicPr>
        <p:blipFill>
          <a:blip r:embed="rId1"/>
          <a:stretch/>
        </p:blipFill>
        <p:spPr>
          <a:xfrm>
            <a:off x="357120" y="2100240"/>
            <a:ext cx="8429760" cy="2657520"/>
          </a:xfrm>
          <a:prstGeom prst="rect">
            <a:avLst/>
          </a:prstGeom>
          <a:ln w="0">
            <a:noFill/>
          </a:ln>
        </p:spPr>
      </p:pic>
      <p:sp>
        <p:nvSpPr>
          <p:cNvPr id="1046" name="矩形 121858"/>
          <p:cNvSpPr/>
          <p:nvPr/>
        </p:nvSpPr>
        <p:spPr>
          <a:xfrm>
            <a:off x="6477120" y="353376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20833" descr=""/>
          <p:cNvPicPr/>
          <p:nvPr/>
        </p:nvPicPr>
        <p:blipFill>
          <a:blip r:embed="rId1"/>
          <a:stretch/>
        </p:blipFill>
        <p:spPr>
          <a:xfrm>
            <a:off x="333360" y="2052720"/>
            <a:ext cx="8477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19809" descr=""/>
          <p:cNvPicPr/>
          <p:nvPr/>
        </p:nvPicPr>
        <p:blipFill>
          <a:blip r:embed="rId1"/>
          <a:stretch/>
        </p:blipFill>
        <p:spPr>
          <a:xfrm>
            <a:off x="371520" y="1328760"/>
            <a:ext cx="8400960" cy="4200480"/>
          </a:xfrm>
          <a:prstGeom prst="rect">
            <a:avLst/>
          </a:prstGeom>
          <a:ln w="0">
            <a:noFill/>
          </a:ln>
        </p:spPr>
      </p:pic>
      <p:sp>
        <p:nvSpPr>
          <p:cNvPr id="1049" name="矩形 119810"/>
          <p:cNvSpPr/>
          <p:nvPr/>
        </p:nvSpPr>
        <p:spPr>
          <a:xfrm>
            <a:off x="2222640" y="218772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9811"/>
          <p:cNvSpPr/>
          <p:nvPr/>
        </p:nvSpPr>
        <p:spPr>
          <a:xfrm>
            <a:off x="2195640" y="2800440"/>
            <a:ext cx="57600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19812"/>
          <p:cNvSpPr/>
          <p:nvPr/>
        </p:nvSpPr>
        <p:spPr>
          <a:xfrm>
            <a:off x="3543480" y="2809800"/>
            <a:ext cx="5047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19813"/>
          <p:cNvSpPr/>
          <p:nvPr/>
        </p:nvSpPr>
        <p:spPr>
          <a:xfrm>
            <a:off x="2133720" y="3432240"/>
            <a:ext cx="70956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19814"/>
          <p:cNvSpPr/>
          <p:nvPr/>
        </p:nvSpPr>
        <p:spPr>
          <a:xfrm>
            <a:off x="3619440" y="329256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19815"/>
          <p:cNvSpPr/>
          <p:nvPr/>
        </p:nvSpPr>
        <p:spPr>
          <a:xfrm>
            <a:off x="4762440" y="4791240"/>
            <a:ext cx="50472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19816"/>
          <p:cNvSpPr/>
          <p:nvPr/>
        </p:nvSpPr>
        <p:spPr>
          <a:xfrm>
            <a:off x="6588000" y="3141720"/>
            <a:ext cx="201636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19817"/>
          <p:cNvSpPr/>
          <p:nvPr/>
        </p:nvSpPr>
        <p:spPr>
          <a:xfrm>
            <a:off x="6443640" y="3490920"/>
            <a:ext cx="8650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19818"/>
          <p:cNvSpPr/>
          <p:nvPr/>
        </p:nvSpPr>
        <p:spPr>
          <a:xfrm>
            <a:off x="7192800" y="4699080"/>
            <a:ext cx="1482840" cy="24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19819"/>
          <p:cNvSpPr/>
          <p:nvPr/>
        </p:nvSpPr>
        <p:spPr>
          <a:xfrm>
            <a:off x="6367320" y="5029200"/>
            <a:ext cx="148284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18785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20040" cy="1000440"/>
          </a:xfrm>
          <a:prstGeom prst="rect">
            <a:avLst/>
          </a:prstGeom>
          <a:ln w="0">
            <a:noFill/>
          </a:ln>
        </p:spPr>
      </p:pic>
      <p:sp>
        <p:nvSpPr>
          <p:cNvPr id="1060" name="矩形 118786"/>
          <p:cNvSpPr/>
          <p:nvPr/>
        </p:nvSpPr>
        <p:spPr>
          <a:xfrm>
            <a:off x="6948360" y="2205000"/>
            <a:ext cx="165600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18787"/>
          <p:cNvSpPr/>
          <p:nvPr/>
        </p:nvSpPr>
        <p:spPr>
          <a:xfrm>
            <a:off x="495360" y="2538360"/>
            <a:ext cx="101124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18788"/>
          <p:cNvSpPr/>
          <p:nvPr/>
        </p:nvSpPr>
        <p:spPr>
          <a:xfrm>
            <a:off x="3924360" y="2577960"/>
            <a:ext cx="44211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117761" descr=""/>
          <p:cNvPicPr/>
          <p:nvPr/>
        </p:nvPicPr>
        <p:blipFill>
          <a:blip r:embed="rId1"/>
          <a:stretch/>
        </p:blipFill>
        <p:spPr>
          <a:xfrm>
            <a:off x="395280" y="2252520"/>
            <a:ext cx="8353440" cy="2352960"/>
          </a:xfrm>
          <a:prstGeom prst="rect">
            <a:avLst/>
          </a:prstGeom>
          <a:ln w="0">
            <a:noFill/>
          </a:ln>
        </p:spPr>
      </p:pic>
      <p:sp>
        <p:nvSpPr>
          <p:cNvPr id="1064" name="矩形 117762"/>
          <p:cNvSpPr/>
          <p:nvPr/>
        </p:nvSpPr>
        <p:spPr>
          <a:xfrm>
            <a:off x="7812000" y="2997360"/>
            <a:ext cx="5050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1673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77120" cy="5629320"/>
          </a:xfrm>
          <a:prstGeom prst="rect">
            <a:avLst/>
          </a:prstGeom>
          <a:ln w="0">
            <a:noFill/>
          </a:ln>
        </p:spPr>
      </p:pic>
      <p:sp>
        <p:nvSpPr>
          <p:cNvPr id="1066" name="矩形 116738"/>
          <p:cNvSpPr/>
          <p:nvPr/>
        </p:nvSpPr>
        <p:spPr>
          <a:xfrm>
            <a:off x="5729400" y="3733920"/>
            <a:ext cx="29462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16739"/>
          <p:cNvSpPr/>
          <p:nvPr/>
        </p:nvSpPr>
        <p:spPr>
          <a:xfrm>
            <a:off x="1436760" y="4317840"/>
            <a:ext cx="421488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16740"/>
          <p:cNvSpPr/>
          <p:nvPr/>
        </p:nvSpPr>
        <p:spPr>
          <a:xfrm>
            <a:off x="7367760" y="5435640"/>
            <a:ext cx="12366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16741"/>
          <p:cNvSpPr/>
          <p:nvPr/>
        </p:nvSpPr>
        <p:spPr>
          <a:xfrm>
            <a:off x="1258920" y="6019920"/>
            <a:ext cx="9190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54:23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